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1F6162-1667-4EFD-9F8E-77DD449E0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3B879C-C072-4F8F-847E-2774F26ECE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rcentage of worldwide deaths can be attributed to coronary artery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common presenting and pathologic symptoms of coronary artery disease. (angina pectoris; pain of myocardial infarction is described as burning, squeezing, crushing, radiating to arm, neck, or ja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f the contributing factors to coronary artery disease? (genetic predisposition; smoking; residence in urban society; hypertension; diabetes; obesity; high choleste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que? (fat-containing substances in the lumen [opening] of the coronary arte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32D06C-2F7C-4450-929E-01387914A2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ymptoms, causes, and treatments of left- and right-sided heart fail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Figure 10-21 (p. 44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3F016C-7427-4ED1-BF1E-24BACCF403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ge group is most at risk of developing rheumatic fe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immune system’s response to strep throat lead to rheumatic fe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144F5C-8BBE-4D00-A37B-25F1CEEE99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alve condition often follows rheumatic fe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ood dental hygiene important to the treatment of rheumatic heart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194655-EC58-419D-9FB9-B249909D73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eart valve is most often affected by valvular heart disea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mitral valve pro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A2428E-1E0F-4ACD-96A3-48EBCA7336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valvular heart disease diagnosed? (ECG, radiographic chest studies, echocardiogram, and cardiac catheter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treatment for valvular heart disease (administration of digitalis or quinidine and antibiotic prophyl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7D917B-1FDF-47D0-B217-D7B4EB748B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tachycardia and bradycardia? (Refer to Table 10-1 pp. 457-45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Coumadin? (anticoagulant that prevents thromboembolism and resulting ag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E1CE9E-5E3C-4CF8-A02B-130E3047F6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ides blood clots, what other types of material can make up embol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ymptoms of embol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venous thromb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use of heparin and coumad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gangrene and how can it be avoided in arterial emboli pati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3C8D06-58FA-4476-AD88-36600A151C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hardening of the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Mönckeberg arterioscler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dition is the cause of most myocardial and cerebral infar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89B6A7-FAE8-492D-801F-7CB8AAFFE4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lipids and cholesterol do? (they form thick, stiff, hardened lesions in the medium and large arteries; the lesions eventually expand to occlude the arte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therosclerosis treated? (Dietary changes to reduce saturated fats and foods high in cholesterol and lipids; cessation of smoking; administration of hyperlipidemic dru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0A0035-EA26-4CE6-A96C-3C61D9CBB3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form of aneury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causes of aneurysm. (buildup of atherosclerotic plaque that weakens the vessel wall; trauma; infection or inflammation; congenital tendenc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form of treatment for aneury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9B311A-8C8F-430E-A871-B2E0A58F8E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how exertion can cause angina pector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yocardiu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angina pectoris patients take nitroglycerin? (nitroglycerin tablets are placed under the tongue; transdermal nitrglycerin helps to prevent angin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28AEF8-C5E2-4959-9371-E05CCB1150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possible causes of phlebitis? (venous stasis, obesity, blood disorders, injury, surge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thrombus and an embol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extended standing or sitting be a cause of varicose ve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71059A-CD46-4F44-BFFF-95C2AF5FD7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hewing an aspirin tablet recommended during a heart attack? (aspirin reduces the risk of additional damage to heart and tissue by ischem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preventive measures that can be taken to reduce the risk of heart attack. (lifestyle modification: exercise; diet low in fat, cholesterol, and salt; control of hypertension; weight loss; cessation of smok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BC1A45-64AD-4429-89E3-E2AEF8C3B4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time window from the onset of the infarction before permanent damage results? (six ho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new AHA CPR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AED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rapeutic hypothermia as part of a treatment option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03EA14-5916-4ED7-AB16-7A61F587B0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elevated blood pressure cause heart disease? (damage to renal blood vessels; increased work for the heart, causing left-sided CHF; damage to cerebral arteries, causing stroke; damage to arterial walls, leading to atheroscler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of the major factors that contribute to hypertensive heart disease. (stress, age, heredity, smoking, obesity, hyperactive persona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DB3850-C349-41E7-8A52-F18E1857E5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irst indication of hypertension? (elevated blood pressure readings -- systolic reading greater than 140 mm Hg and diastolic reading greater than 90 mm Hg indicate hyperten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B23C79-1CEB-4C9E-BB0B-6FF6C73320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hypertensive heart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differences between essential hypertension and malignant hyper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symptoms of hypertensive heart disease. (headaches, epistaxis, lightheadedness, synco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Figure 10-18 (p. 43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DA05C2-2BFB-4616-BC9C-7EFF02233C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causes of congestive heart fail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n echocardiogram help in diagnosing congestive heart fail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2AF08A-C59B-4AF1-9E69-DF3F60A1A5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reatment of CHF. (administration of digitalis to strengthen and slow the heartbeat; beta-blockers and ACE inhibitors to increase blood flow; diuretics to reduce volume of fluid in the body; vasodilators to reduce vascular press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rognosis for acute and chronic CHF? (acute CHF usually responds to medical intervention; patient with chronic CHF is vulnerable to major organ impair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1030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ronary Artery Disea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onary artery dise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ing the arteries that supply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ocardium, in which the arteries be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rowed due to atherosclerotic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time, causing temporary cardi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chemia and eventually heart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gestive Heart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-sided congestive heart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ventricle does not emp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backs up in pulmonary 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cong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-sided congestive heart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ventricle cannot emp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backs up in systemic 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ema in legs and digestiv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heumatic Fev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heumatic fev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systemic inflamm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utoimmune disease involving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s and cardiac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preceded by sore throat caused by group A beta-hemolytic streptococ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heumatic F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heumatic heart dise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cardi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festations that follow rheumatic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affects mitral and aortic va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lvular Heart Disea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vular heart dise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acquired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disorder that can involve any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 valves of the heart (pulmonar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uspid, aortic, or mit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tral valve prolap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VP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ccurs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lve cusps do not close comple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lve Insufficiency and Sten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ve insufficienc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ilure of valves to close completely, allows blood to be forced back into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nosi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ening of cusps of valves that prevents complete opening of valves, impedes blood flow into next cha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rdiac Arrhythmia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diac arrhythmias (irre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tbeats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ny deviation from the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beat, i.e., the normal sinus rhy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Condi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boli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lots of aggregated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usually blood) that can lodge in a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sel and inhibit the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nous thromb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clot that has formed in the deep veins of the le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mon type of em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Condition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erioscler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ndition that occu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walls of the arterioles thick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loss of elasticity and contract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heroscler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thickening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ening of the arteries that occurs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ques of cholesterol and lipids form 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erial tunica int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sk Factors of Atheroscler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ntary life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t rich in lipids and cholesterol-producing f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Condition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eurysm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weakening and resul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dilation of the wall of an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ronary Arte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gina pector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ndition of chest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exertion that is the result of re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supply to the myocar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Condition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leb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inflammation of a vein that occ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ten in the lower legs, but any vein may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ombophleb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result of an inflam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 vein with the formation of a thrombus on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sse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cose vein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wollen, tortuous, and knot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ns that usually occur in the lower le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ronary Arte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ocardial infarc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MI) - Death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ocardial tissue caused by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isch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cause is coronary thromb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 oxygen, give morphine for 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 aspir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e vasodilation by nitroglycerin dr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 lidocaine by intravenous dr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 thrombolytic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blood flow by angioplas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eatment Options for Myocardial Infar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ypertensive Heart Disea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ertensive heart dise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chronically elevate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out the vascular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revalent cardiovascular disorde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eatment of Hypertens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uretics to reduce circulating bloo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a-adrenergic blockers to slow heartb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odilators to dilate ve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iotensin-converting enzyme (ACE) inhibitors to produce vasodilation and increase renal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ypertensive Heart Disea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ential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t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gestive Heart Failur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gestive heart failure (CHF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or chronic inability of the heart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mp enough blood throughout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lly increasing dysp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and respiratory rates 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k veins dist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ema in ank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r and spleen en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gns of Congestive Heart Fail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14:59:33Z</dcterms:created>
  <dc:creator>Elaine Gillingham</dc:creator>
  <dc:description/>
  <dc:language>en-US</dc:language>
  <cp:lastModifiedBy>Student</cp:lastModifiedBy>
  <cp:lastPrinted>2004-11-23T20:33:28Z</cp:lastPrinted>
  <dcterms:modified xsi:type="dcterms:W3CDTF">2011-06-14T20:28:58Z</dcterms:modified>
  <cp:revision>780</cp:revision>
  <dc:subject/>
  <dc:title>Management Techniques for the Health Unit Coordinator</dc:title>
</cp:coreProperties>
</file>